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047C-1BD8-4EE8-97F9-9DC92D575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B32F-0A00-4358-9688-1698B67DC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3DBE-75F8-4AA2-96B8-71ADC690B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590A-BED5-4A84-8675-13939E25C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F497-0DC2-4362-B6AF-773637CCE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92F7-BBCE-487D-8213-AE36F73840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D92D-7F71-4236-8A59-5D4FD4E15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9459-7DDC-48E3-982F-DA8B0DBA5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91E3-3FF8-49CF-8B2E-5691CBA26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54CD-1B7D-4013-8141-D3C2B14D9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7689-6737-47D9-8277-682D975B0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FEDC-1C73-4751-8CE2-D5DA88F86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54B5-4A2F-4B47-B7CC-33EA2D984A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22F2-1878-4C67-80B3-FF38A6D5D2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4972-B5A7-41FB-873A-3FDCCEE2D2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849C-6E03-40B4-AFA7-9F2A760B25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22220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2976480"/>
            <a:ext cx="26989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9C09-2EC1-4AB0-8BDB-8988310C9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9DB5-BC2A-4AA3-A200-8E97F8B34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EB40-599F-400A-9687-283D08DE4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C9FF-96FC-43DB-AD17-B530DCB8A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15560"/>
            <a:ext cx="838188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94E0-88D2-46C2-A443-AEAA7229B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F6C7-A509-444E-8727-1FD46A710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297648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F793-ED53-49E4-BDBA-D0D78C07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22200"/>
            <a:ext cx="409032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976480"/>
            <a:ext cx="838224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09F2-E1E1-4B46-97DD-04E1B33F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880" y="1222200"/>
            <a:ext cx="8382240" cy="335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"/>
          <p:cNvSpPr/>
          <p:nvPr/>
        </p:nvSpPr>
        <p:spPr>
          <a:xfrm>
            <a:off x="8350200" y="6553080"/>
            <a:ext cx="7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C83F-FB9C-4A1C-B25B-6259A24F1D6B}" type="slidenum">
              <a:rPr b="0" lang="ja-JP" sz="1600" spc="-1" strike="noStrike">
                <a:solidFill>
                  <a:srgbClr val="3333cc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ldNum" idx="2"/>
          </p:nvPr>
        </p:nvSpPr>
        <p:spPr>
          <a:xfrm>
            <a:off x="151920" y="6553080"/>
            <a:ext cx="3505320" cy="2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7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6 Aplix Corpor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sitri.de/wiki.php?page=AJZaurusUSB" TargetMode="External"/><Relationship Id="rId2" Type="http://schemas.openxmlformats.org/officeDocument/2006/relationships/hyperlink" Target="http://www.dsitri.de/wiki.php?page=AJZaurusUSB" TargetMode="External"/><Relationship Id="rId3" Type="http://schemas.openxmlformats.org/officeDocument/2006/relationships/hyperlink" Target="http://www.dsitri.de/wiki.php?page=AJZaurusUSB" TargetMode="External"/><Relationship Id="rId4" Type="http://schemas.openxmlformats.org/officeDocument/2006/relationships/hyperlink" Target="http://www.dsitri.de/wiki.php?page=AJZaurusUSB" TargetMode="External"/><Relationship Id="rId5" Type="http://schemas.openxmlformats.org/officeDocument/2006/relationships/hyperlink" Target="http://www.linux-usb.org/usbnet/" TargetMode="External"/><Relationship Id="rId6" Type="http://schemas.openxmlformats.org/officeDocument/2006/relationships/hyperlink" Target="http://www.linux-usb.org/usbnet/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veloper.apple.com/tools/xcode/index.html" TargetMode="External"/><Relationship Id="rId2" Type="http://schemas.openxmlformats.org/officeDocument/2006/relationships/hyperlink" Target="http://developer.apple.com/tools/xcode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ink.sourceforge.net/" TargetMode="External"/><Relationship Id="rId2" Type="http://schemas.openxmlformats.org/officeDocument/2006/relationships/hyperlink" Target="http://fink.sourceforge.net/" TargetMode="External"/><Relationship Id="rId3" Type="http://schemas.openxmlformats.org/officeDocument/2006/relationships/hyperlink" Target="http://fink.sourceforge.net/" TargetMode="Externa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egel.com/crosstool/" TargetMode="External"/><Relationship Id="rId2" Type="http://schemas.openxmlformats.org/officeDocument/2006/relationships/hyperlink" Target="http://www.kegel.com/crosstool/" TargetMode="External"/><Relationship Id="rId3" Type="http://schemas.openxmlformats.org/officeDocument/2006/relationships/hyperlink" Target="http://www.kegel.com/crosstool/" TargetMode="External"/><Relationship Id="rId4" Type="http://schemas.openxmlformats.org/officeDocument/2006/relationships/hyperlink" Target="http://lsb.blogdns.net/ezx-crosstoo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5760" y="5672160"/>
            <a:ext cx="1363680" cy="662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3638520"/>
            <a:ext cx="8686800" cy="0"/>
          </a:xfrm>
          <a:prstGeom prst="line">
            <a:avLst/>
          </a:prstGeom>
          <a:ln w="57240">
            <a:solidFill>
              <a:srgbClr val="588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3154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, 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5440" y="6037920"/>
            <a:ext cx="1977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kyo Jamboree #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400" y="3122640"/>
            <a:ext cx="457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Cross-Development on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0400" y="4216320"/>
            <a:ext cx="3109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dr</a:t>
            </a:r>
            <a:r>
              <a:rPr b="1" lang="ja-JP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é Krützfe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1E67-7C57-4E27-8057-E6A49EE0ED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f there is an Error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61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ostly errors are not really error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Mac uses different versions of GNU Utilitie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ook at the error and see what produced it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.g. Error in an awk-script is not the scrip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se fink and install ‘gawk’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Run “./build.sh” again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Mostly the error is gone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Unfortunately it does take hours and the “./build.sh” always starts from the beginning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EF73-A830-463A-BD1C-59750D928F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pected Err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re is an expected erro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t the end it will complain abou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ATH_MAX is undefined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is to be ignored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LSO (known)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pple make does have a bug/featur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.m files are treated differently! (Objective-C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et a make from gnu and compile it separately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opy it in /sw/bin do not copy it in /usr/bin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AAF1-77F5-417C-AC1C-6A702411FB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tributed Compi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39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nce you are done, you will have a cross compiler for your embedded devic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f you happen to have more than one Mac, you can distribute the cross compiler and compile in your network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ool to use is‘distcc’ which is part OS X Xcod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(Very advanced, I have not tested it yet.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B338-E1A5-4D07-A928-8F7FF50B46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oss-compile Tric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4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developers prefer to use a different shell for the cross compilation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assures that the builds do not interfere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.g. ‘tcsh’ uses‘.tcshrc’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et the PATH and other values to the target compiler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nd do not forge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./configure </a:t>
            </a:r>
            <a:r>
              <a:rPr b="0" lang="en-US" sz="2600" spc="-1" strike="noStrike">
                <a:solidFill>
                  <a:srgbClr val="ff0000"/>
                </a:solidFill>
                <a:latin typeface="ＭＳ Ｐゴシック"/>
              </a:rPr>
              <a:t>--host=arm-linu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is tells configure that you are cross compiling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D45C-DF45-4890-9E4B-69DEF8455D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 the environ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3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PATH must be set to the cross compiler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ATH=/opt/crosstool/gcc-3.4.5-glibc-2.3.3/arm-linux/bin:…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lso set the environment variable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R=arm-linux-a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C=arm-linux-gcc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XX=arm-linux-g++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LD=arm-linux-l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RANLIB=arm-linux-ranli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TRIP=arm-linux-strip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1D1D-F182-4F4A-BE5D-10F372CB92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ols for M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erm as xterm substitute, it supports bookmark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iterm.sourceforge.net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55760" y="2232000"/>
            <a:ext cx="6413400" cy="40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0449-56E0-4EC5-85FE-19E5DD10FE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ols for Mac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96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ugu to copy over ss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rsug.itd.umich.edu/software/fugu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8960" y="2185920"/>
            <a:ext cx="8021520" cy="418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FE75-1C43-461F-B587-0D06EDD5A1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tilities for Mac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ome devices use Ethernet over USB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et the Mac driver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dsitri.de/wiki.php?page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=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AJZaurusUS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riginally for the Zaurus, but works with most USBLan or USBNet enabled devices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f you want to enable a device this way, look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5"/>
              </a:rPr>
              <a:t>http://www.linux-usb.org/usbnet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6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1024-4054-41F9-BE53-BC32541243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i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0800" y="2004840"/>
            <a:ext cx="1200240" cy="20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71720" y="1549440"/>
            <a:ext cx="1044360" cy="2738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8640" y="1916280"/>
            <a:ext cx="1228680" cy="250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335640" y="1566720"/>
            <a:ext cx="19368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69160" y="444492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4720" y="4495680"/>
            <a:ext cx="146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okr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96520" y="4506840"/>
            <a:ext cx="915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23E6-C3C1-4BAA-8F8D-FADCBE0311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75040" y="4257720"/>
            <a:ext cx="1363680" cy="6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971800" y="5083200"/>
            <a:ext cx="342900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67D7-10BB-421D-BA44-7A5891FF247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cintosh and Xco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23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OS X does come with Xcode bundle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ewest version at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developer.apple.com/tools/xcode/index.htm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ncludes all gnu compilers (4.0.1) and utilities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Download is about 900MB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ood for Apple development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you will need 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For embedded systems, not applicable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51F7-01C5-4BE9-8AD6-AC19E58AFF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lete your Mac too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245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ake your development complete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Use fink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fink.sourceforge.net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It installs everything under /sw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fter install use FinkCommand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28680" y="3606840"/>
            <a:ext cx="5054760" cy="28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3700-7BDD-4737-87C6-0DF9DA7F0F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lete your Mac tools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dd the fink distribution to your pat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Easy: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more “test -r /sw/bin/init.sh &amp;&amp; . /sw/bin/init.s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_x001a__x001a__x001a_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h” &gt;&gt; .profile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lose your terminal window and open it again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ow the path should look lik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$ echo $PATH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ＭＳ Ｐゴシック"/>
              </a:rPr>
              <a:t>/sw/bin:/sw/sbin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:/bin:/sbin:/usr/bin:/usr/local/bin: /usr/sbin:/usr/local/teTeX/bin/powerpc-apple-darwin-current:/usr/X11R6/bin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D910-14F4-4C07-A43D-C832543501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 the Compil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7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Next step is to select a Cross Compiler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est: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1"/>
              </a:rPr>
              <a:t>http://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2"/>
              </a:rPr>
              <a:t>www.kegel.com/crosstool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urrent version 0.42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Support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cc-2.95, gcc-3.2.x - gcc-4.0.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current build results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http://www.kegel.com/crosstool/crosstool-0.42/buildlogs/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intend to compile for Motorola devices, use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tool for EZX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ＭＳ Ｐゴシック"/>
                <a:hlinkClick r:id="rId4"/>
              </a:rPr>
              <a:t>http://lsb.blogdns.net/ezx-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Current version 0.5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3452-98A3-4A4D-A93D-FCCDDDC2D4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r the Compiler (2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Extract the downloaded files with: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gzip if the file ends with .gz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zip2 if the file ends with .bz2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(Both in fink)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Make sure you have ‘wget’ installed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the build process uses i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Check with: $ type wge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get is /sw/bin/wge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You MUST be online to do the build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It will get the sources to compile from websites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06D0-9333-4C77-A2DF-713EC30819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iler source downl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21840"/>
            <a:ext cx="8382240" cy="53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The scripts use wget to download the libraries and linux components defined in: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gcc-&lt;version&gt;-glib-&lt;version&gt;.da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f you have a proxy setup, make sure that wget can work with it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f you cannot get wget to work, just run the demo-XYZ.sh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It will try to access the sites, use &lt;ctrl&gt;-c to stop it and use a normal browser to download the needed files.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Place then into the download directory, usually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$HOME/download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tart demo-XYZ.sh again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4221-D259-4747-960B-157984BA32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up the target directo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At the end you will have to install your cross compiler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Best to setup the directory and rights now.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do mkdir /opt/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do chown $USER /opt/crosstool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ＭＳ Ｐゴシック"/>
              </a:rPr>
              <a:t>The following script will build the Motorola cross compiler and install the result into the same directory!</a:t>
            </a:r>
            <a:endParaRPr b="0" lang="en-US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E235-587B-496B-BF1C-0C014E498C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38188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to compile the compil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22200"/>
            <a:ext cx="8382240" cy="56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build.sh from ezx-crosstool derived from demo-*.sh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!/bin/sh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t -ex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CROSSTOOL_DIR=`pwd`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ARBALLS_DIR=$CROSSTOOL_DIR/download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Ｐゴシック"/>
              </a:rPr>
              <a:t>RESULT_TOP=$CROSSTOOL_DIR/gcc-arm-iwmmx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RC_DIR=$CROSSTOOL_DIR/src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xport TARBALLS_DIR RESULT_TOP SRC_DIR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GCC_LANGUAGES="c,c++"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xport GCC_LANGUAGES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Really, you should do the mkdir before running this,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and chown /opt/crosstool to yourself so you don't need to run as root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mkdir -p $RESULT_TOP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# Build the toolchain.  Takes a couple hours and a couple gigabytes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ＭＳ Ｐゴシック"/>
              </a:rPr>
              <a:t>eval `cat arm-ezx.dat gcc-3.3.6-glibc-2.3.2.dat`  sh all.sh --notest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echo Done.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B4F0-EAE2-4994-81F2-A5DDEBEA167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07:45:29Z</dcterms:created>
  <dc:creator>Aplix Corporation</dc:creator>
  <dc:description>
</dc:description>
  <dc:language>en-US</dc:language>
  <cp:lastModifiedBy>Satoru Ueda</cp:lastModifiedBy>
  <cp:lastPrinted>2003-07-31T14:03:35Z</cp:lastPrinted>
  <dcterms:modified xsi:type="dcterms:W3CDTF">2006-05-29T00:56:01Z</dcterms:modified>
  <cp:revision>2390</cp:revision>
  <dc:subject/>
  <dc:title>平成17年12月期第1四半期決算説明会</dc:title>
</cp:coreProperties>
</file>